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BEA-6871-42EE-B22D-5471DD59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87C-8BB3-4900-8B08-680E3FA2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DA5E-B72E-4DAE-98AD-CA49EF30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6A6-07AD-42F3-94AC-4C34130A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B70-5AF3-42B1-A8A0-B1372139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CAB-7A3A-4C1B-B427-B8B319CC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A88-1C9C-4476-9306-2419FC7B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C46-C083-465D-97D5-5621593A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A8D-ED94-431F-A79E-1B5CA6D4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280-A615-4570-BC4D-F3835271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A0D-8268-4272-ADD9-6D76FF6C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322-9AA5-4F27-81E5-1E0B3639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2B06-C447-4C6F-995F-094F50007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ind-healthy-food.com/Diseases-Conditions/digestive-system.jpg&amp;imgrefurl=http://www.find-healthy-food.com/Diseases-Conditions/Crohns-Disease.html&amp;usg=__-dLGLizxpkufPtx7pHWHoyUkQCI=&amp;h=355&amp;w=455&amp;sz=17&amp;hl=en&amp;start=15&amp;um=1&amp;itbs=1&amp;tbnid=IPQLJdTPwNg-xM:&amp;tbnh=100&amp;tbnw=128&amp;prev=/images%3Fq%3Ddigestive%2Bsystem%2Bdiseases%26um%3D1%26hl%3Den%26safe%3Dactive%26sa%3DN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nutritionalhealthenterprises.com/images/body.jpg&amp;imgrefurl=http://www.nutritionalhealthenterprises.com/articles.ews%3Farticles.ewdid%3D1&amp;usg=__Gh-feH_IRE4A8onwJHJE8lDR2MI=&amp;h=367&amp;w=395&amp;sz=44&amp;hl=en&amp;start=50&amp;um=1&amp;itbs=1&amp;tbnid=xXwx1dmp4vbO9M:&amp;tbnh=115&amp;tbnw=124&amp;prev=/images%3Fq%3Ddigestive%2Bsystem%2Bdiseases%26start%3D42%26um%3D1%26hl%3Den%26safe%3Dactive%26sa%3DN%26ndsp%3D21%26tbs%3Disch: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3.bp.blogspot.com/_Y16tX3TY2e4/SrMqGZkoEwI/AAAAAAAAAGI/oQQfzlA7Zv8/s320/Acute%2Bappendicitis.jpg&amp;imgrefurl=http://amazinghumanbody-prakash.blogspot.com/2009/09/diseases-of-digestive-system.html&amp;usg=__o_jrEZ_YgjqGGseFHAs7uXTmxjQ=&amp;h=235&amp;w=320&amp;sz=17&amp;hl=en&amp;start=10&amp;um=1&amp;itbs=1&amp;tbnid=qo3UTjzwynKJQM:&amp;tbnh=87&amp;tbnw=118&amp;prev=/images%3Fq%3DAppendicitis%2Bis%2Ban%2Birritation,%2Binflammation,%2Band%2Binfection%2Bof%2Bthe%2Bappendix%26um%3D1%26hl%3Den%26safe%3Dactive%26sa%3DN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dconsult.com/das/patient/body/0/0/10041/19292_en.jpg&amp;imgrefurl=http://www.mdconsult.com/das/patient/body/0/0/10041/33460.html&amp;usg=__pioCwDKZ37PXJmG7qaZGXyxigQQ=&amp;h=320&amp;w=400&amp;sz=27&amp;hl=en&amp;start=7&amp;um=1&amp;itbs=1&amp;tbnid=NPN3_mNjmi67QM:&amp;tbnh=99&amp;tbnw=124&amp;prev=/images%3Fq%3Dceliac%2Bdisease%2527%26um%3D1%26hl%3Den%26safe%3Dactive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dgadget.com/archives/img/crohn.jpg&amp;imgrefurl=http://medgadget.com/archives/2006/02/crohns_disease.html&amp;usg=__hj8CkvqAzGuD23gZrd7deAEEZqk=&amp;h=491&amp;w=500&amp;sz=19&amp;hl=en&amp;start=4&amp;um=1&amp;itbs=1&amp;tbnid=Tw_GAMxvS5kP-M:&amp;tbnh=128&amp;tbnw=130&amp;prev=/images%3Fq%3Dcrohns%2Bdisease%26um%3D1%26hl%3Den%26safe%3Dactive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urehemorrhoids.net/img/hemorrhoid.jpg&amp;imgrefurl=http://curehemorrhoids.net/&amp;usg=__OpSX0M71B054XMXOfBx65AET6aE=&amp;h=187&amp;w=141&amp;sz=6&amp;hl=en&amp;start=2&amp;um=1&amp;itbs=1&amp;tbnid=1tT28eBpiYlIxM:&amp;tbnh=102&amp;tbnw=77&amp;prev=/images%3Fq%3Dhemmorhoids%26um%3D1%26hl%3Den%26safe%3Dactive%26tbs%3Disch: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oomaalidamaanta.com/sm/images/stories/2009/01/A/gastritis1.jpg&amp;imgrefurl=http://www.soomaalidamaanta.com/sm/index.php%3Fview%3Darticle%26id%3D5717%253Ama-jeceshahay-inaad-wax-ka-ogaato-cudurka-gaastiriko-gastritis%26option%3Dcom_content%26Itemid%3D47&amp;usg=__QvTgLyhyBxqFmEmI0BEurDYeRD0=&amp;h=655&amp;w=753&amp;sz=42&amp;hl=en&amp;start=1&amp;um=1&amp;itbs=1&amp;tbnid=B30nYHI_fLAvkM:&amp;tbnh=124&amp;tbnw=142&amp;prev=/images%3Fq%3Dgastritis%26um%3D1%26hl%3Den%26safe%3Dactive%26sa%3DG%26tbs%3Disch: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cureme.com/atlas/data/dis_images/Stomach_Cancer550_ab.jpg&amp;imgrefurl=http://healthtalksnow.blogspot.com/2008/06/signs-and-symptoms-of-stomach-cancer.html&amp;usg=__RL5uPxFTBM29FOrDUKCU07xxDl4=&amp;h=375&amp;w=500&amp;sz=18&amp;hl=en&amp;start=1&amp;um=1&amp;itbs=1&amp;tbnid=P5EqblxHdRY9rM:&amp;tbnh=98&amp;tbnw=130&amp;prev=/images%3Fq%3Dstomach%2Bcancer%26um%3D1%26hl%3Den%26safe%3Dactive%26tbs%3Disch: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dconsult.com/das/patient/body/0/0/10041/1090_en.jpg&amp;imgrefurl=http://www.mdconsult.com/das/patient/body/0/0/10041/30754.html&amp;usg=__uRDi9oSAYz9oa9sEMCwcBHGimNI=&amp;h=320&amp;w=400&amp;sz=18&amp;hl=en&amp;start=12&amp;um=1&amp;itbs=1&amp;tbnid=3cJ2RbSzYb1_iM:&amp;tbnh=99&amp;tbnw=124&amp;prev=/images%3Fq%3Dgastroparesis%26um%3D1%26hl%3Den%26safe%3Dactive%26sa%3DG%26tbs%3Disch: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System Disorders and Diseases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Vinny Fush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28600"/>
            <a:ext cx="3504960" cy="1714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4495680"/>
            <a:ext cx="3581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l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lstones are hard, pebble-like deposits that form inside the gallblad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lstones may be as small as a grain of sand or as large as a golf b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lstones are usually discovered in an annual x-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not a life threatening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42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3 – Lindsey Bernosk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Illnesses/ First Aid/ Emergency of the Diges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7146" t="0" r="10715" b="0"/>
          <a:stretch/>
        </p:blipFill>
        <p:spPr>
          <a:xfrm>
            <a:off x="304920" y="380880"/>
            <a:ext cx="2663640" cy="2895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2933640" cy="3343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12798" r="14894" b="13209"/>
          <a:stretch/>
        </p:blipFill>
        <p:spPr>
          <a:xfrm>
            <a:off x="5181480" y="3581280"/>
            <a:ext cx="2751120" cy="2762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rcRect l="9486" t="0" r="24109" b="0"/>
          <a:stretch/>
        </p:blipFill>
        <p:spPr>
          <a:xfrm>
            <a:off x="6777000" y="0"/>
            <a:ext cx="2367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most common sudden illnesses in the Digestive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burn/Acid Refl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Term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ughing - an important way to keep your throat and airways clear. However, excessive coughing may mean you have an underlying proble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doscope - a procedure that uses a lighted, flexible endoscope to see inside the upper GI trac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ysentery- </a:t>
            </a:r>
            <a:r>
              <a:rPr b="0" lang="en" sz="2500" spc="-1" strike="noStrike">
                <a:solidFill>
                  <a:srgbClr val="000000"/>
                </a:solidFill>
                <a:latin typeface="Arial"/>
              </a:rPr>
              <a:t>an inflammatory disorder of the intestine, especially of the colon, that results in severe diarrhea containing mucus and/or blood in the feces with fever and abdominal pa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500" spc="-1" strike="noStrike">
                <a:solidFill>
                  <a:srgbClr val="000000"/>
                </a:solidFill>
                <a:latin typeface="Arial"/>
              </a:rPr>
              <a:t>Dysbiosis-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or digestive fun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aky Gut Syndrome- the name given for the condition that allows larger food particles to pass through the gut wa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seful Ter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arrhea- </a:t>
            </a:r>
            <a:r>
              <a:rPr b="0" lang="en" sz="2500" spc="-1" strike="noStrike">
                <a:solidFill>
                  <a:srgbClr val="000000"/>
                </a:solidFill>
                <a:latin typeface="Arial"/>
              </a:rPr>
              <a:t>is the condition of having three or more loose or liquid bowel movements per da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500" spc="-1" strike="noStrike">
                <a:solidFill>
                  <a:srgbClr val="000000"/>
                </a:solidFill>
                <a:latin typeface="Arial"/>
              </a:rPr>
              <a:t>Hiccups - is an esophageal contraction of the diaphragm that repeats several times per minu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gestive System - </a:t>
            </a:r>
            <a:r>
              <a:rPr b="0" lang="en" sz="2500" spc="-1" strike="noStrike">
                <a:solidFill>
                  <a:srgbClr val="000000"/>
                </a:solidFill>
                <a:latin typeface="Arial"/>
              </a:rPr>
              <a:t>is the mechanical and chemical breaking down of food into smaller components that can be absorbed into a blood stream, for insta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500" spc="-1" strike="noStrike">
                <a:solidFill>
                  <a:srgbClr val="000000"/>
                </a:solidFill>
                <a:latin typeface="Arial"/>
              </a:rPr>
              <a:t>Heartburn- also known as acid reflux, is a painful and burning sensation in the esophagus, just behind the breastbone, usually associated with regurgitation of gastric aci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rritable bowel syndrome  refers to a disorder of the lower intestinal tract. It involves abdominal pain and abnormal bowel movements. Emotional stress often makes the symptoms wor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ccu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23320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of hicc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ting too mu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nking carbonated bever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ssive consumption of alcoh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temperature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itement or emotional st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685800"/>
            <a:ext cx="7543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a hiccup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Hiccup is defined as the involuntary contraction of the diaphragm — the muscle that separates your chest from your abdomen and plays an important role in breathing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2514600"/>
            <a:ext cx="41148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on of Hiccups DON’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t large me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Drink carbon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verages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oh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ave Sudd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tburn/ Acid Refl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usea after 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mach fullness or blo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per abdominal pain and discomf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848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cid Reflux and Heartb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defined as: A common condition and an abnormal one in which acid in the stomach rises up into the esophagu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209680"/>
            <a:ext cx="358128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eople with heartburn should avoid or reduce consumption of foods and beverages that contain caffeine, chocolate, peppermint, spearmint, and alcoh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hysicians often advise patients with Acid Reflux to cut down on fatty f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creasing protein may help streng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hole grain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at fruits and vegetables, although avoid acidic vegetables and fru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rrhe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3885840"/>
            <a:ext cx="350532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Causes of Diarrh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 and 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ficial swee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ge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411480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ptoms of Diarrh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requent, loo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y s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bdominal cr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bdominal 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lood in the 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lo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6002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treat Diarrh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rinking lots of flu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at probiotic yogu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RAT diet: bananas,        rice, apples or applesauce, and dry to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void diarrhea med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480060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rrhea i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miliar phenomenon with unusually frequent or unusually liquid bowel movements, excessive watery evacuations of fecal mater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ow Up/ Vo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876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w up or vomit is defined as:</a:t>
            </a:r>
            <a:r>
              <a:rPr b="0" lang="en" sz="1900" spc="-1" strike="noStrike">
                <a:solidFill>
                  <a:srgbClr val="000000"/>
                </a:solidFill>
                <a:latin typeface="Arial"/>
              </a:rPr>
              <a:t>To eject part or all of the contents of the stomach through the mouth, usually in a series of involuntary spasmic movement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048120"/>
            <a:ext cx="41911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ptoms Of Vomi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voluntary expulsion of food from mouth and n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creased sal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izz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ght-headed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ifficulty in swallowing food or liqu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hanges in skin 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crease in heartbeat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creased sensitivity to certain sme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hanges in the taste of some f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4876920"/>
            <a:ext cx="312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ention: DON’T EAT FAST or FOODS YOU DON’T 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2590920"/>
            <a:ext cx="3353040" cy="24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uses of Vomiting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entral causes (signals from the brain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association with another illness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medications and medical treatments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cit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citis is an irritation, inflammation, and infection of the append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citis isnt a really important part of the immune system but if infected can cause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endix can rupture 48 to 72 hours if you don’t get medical attention fast en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feel pain by your appendix make sure you seek medical at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905120"/>
            <a:ext cx="3124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8640" y="12189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a picture of acid reflux - which is the burning in or around your stomach from eating food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2132280" cy="2428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2666880" cy="2952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9880" y="3505320"/>
            <a:ext cx="48769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rrhea causes death amongst young children and is just too much water in the stool. Diarrhea could also lead to dehydratio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iac Dise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iac disease is a digestive disease that damages the small intest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a sensitivity to gluten, which is found in wheat, rye, barley, and oa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isease interferes with the absorption of nutrients from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eat gluten this disease damages your small intest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hns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isease where an inflammatory bowel disease that is a extreme condition that may occur at various times over a life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hn's disease is also called ileitis or enterit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amages the smaller intest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cases the small and large intestines are dam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371600"/>
            <a:ext cx="3733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rrhoi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orrhoids are blood vessels, that are in and around the anus and lower rectum, that have become swollen due to stretching and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very common in both men and women, and about half the population have hemorrhoids by age 5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nt a life threatening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common in pregnant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6765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it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itis is an inflammation of the stomach li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nking to much alcohol and smoking and eating spicy food is what can give you thi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ny different ways that cause this disorder but these are just som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 away from consuming to much of these items if you don’t want thi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447920"/>
            <a:ext cx="3276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ch Canc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ancer that starts in any part of the stoma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called gastric ca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very life threatening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people in America pass away each year from thi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lier it is found and treated the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3047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par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paresis is a stomach disorder in which the stomach takes too long emptying out every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ood remains in the stomach for too long, it can cause problems such as bacterial overgrowth from the food sit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od can also harden in to solid masses called, bezoars which may cause vomiting or nau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981080"/>
            <a:ext cx="3429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ulcer is an open sore, or lesion, usually found on the skin or mucous membrane areas of the bo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 25 million Americans develop at least one ulcer during their life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Million people get affected each year due to ulc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mach ulcers are called gastric ulc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different palaces that you can have ulc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353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6:43:10Z</dcterms:created>
  <dc:creator>bbell</dc:creator>
  <dc:description/>
  <dc:language>en-US</dc:language>
  <cp:lastModifiedBy>Lindsey</cp:lastModifiedBy>
  <dcterms:modified xsi:type="dcterms:W3CDTF">2010-03-17T22:12:58Z</dcterms:modified>
  <cp:revision>7</cp:revision>
  <dc:subject/>
  <dc:title>Part 3 – Lindsey Bernoskie</dc:title>
</cp:coreProperties>
</file>